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voltag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AD5C-51FD-4044-B856-B4885E9E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FAE-29CF-4A19-869E-25832888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168-6191-4CBA-8572-BF343545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06D-076C-499B-B2EA-3CEFFA49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21D-BED3-4658-9399-F50A0137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806-4415-4573-BDF4-6CDF3A97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255-648F-4569-844E-3BD9A4D6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44B-0E38-472E-B1BD-971152FD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97B-4F78-466C-B892-7AFF7FF0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55A-A3EE-418A-8F94-B135D4A5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6CD-1287-440E-BFF6-06F58C8E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54B-22CF-4796-93B3-1A29B481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97C0-F436-4252-8476-DE11A19F387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tempo.com.br/jornalpampulha/fotos/20080202/foto_01022008171622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.br/imgres?imgurl=http://www.otempo.com.br/jornalpampulha/fotos/20080202/foto_01022008171622.jpg&amp;imgrefurl=http://www.otempo.com.br/jornalpampulha/noticias/%3FIdEdicao%3D71%26IdCanal%3D15%26IdSubCanal%3D%26IdNoticia%3D2112%26IdTipoNoticia%3D1&amp;usg=__LRCqw5RofheC08K1XIT6v3BA-HA=&amp;h=443&amp;w=500&amp;sz=35&amp;hl=pt-br&amp;start=6&amp;zoom=1&amp;itbs=1&amp;tbnid=SBF5fErfkuDoUM:&amp;tbnh=115&amp;tbnw=130&amp;prev=/images%3Fq%3Dpaisagens%2Bnaturais%26hl%3Dpt-br%26gbv%3D2%26tbs%3Disch:1" TargetMode="External"/><Relationship Id="rId4" Type="http://schemas.openxmlformats.org/officeDocument/2006/relationships/hyperlink" Target="http://www.google.com.br/imgres?imgurl=http://www.otempo.com.br/jornalpampulha/fotos/20080202/foto_01022008171622.jpg&amp;imgrefurl=http://www.otempo.com.br/jornalpampulha/noticias/%3FIdEdicao%3D71%26IdCanal%3D15%26IdSubCanal%3D%26IdNoticia%3D2112%26IdTipoNoticia%3D1&amp;usg=__LRCqw5RofheC08K1XIT6v3BA-HA=&amp;h=443&amp;w=500&amp;sz=35&amp;hl=pt-br&amp;start=6&amp;zoom=1&amp;itbs=1&amp;tbnid=SBF5fErfkuDoUM:&amp;tbnh=115&amp;tbnw=130&amp;prev=/images%3Fq%3Dpaisagens%2Bnaturais%26hl%3Dpt-br%26gbv%3D2%26tbs%3Disch:1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motion.com.br/imagens/data/media/32/10376rosas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digiforum.com.br/duelocla/fase_1/f_extreme/paisagem_natural_extreme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pintravel.blogtv.com.pt/img/Image/Spintravel/2008/marco/Mangue-seco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m.br/imgres?imgurl=http://spintravel.blogtv.com.pt/img/Image/Spintravel/2008/marco/Mangue-seco.jpg&amp;imgrefurl=http://spintravel.blogtv.com.pt/2008/03/12/mangueseco-no-litoral-baiano-brasil&amp;usg=__tVV-ZxQD1oIp4x3v8fMMEqPO1so=&amp;h=768&amp;w=1024&amp;sz=150&amp;hl=pt-br&amp;start=13&amp;zoom=1&amp;itbs=1&amp;tbnid=CzSXNOjfLRFYzM:&amp;tbnh=113&amp;tbnw=150&amp;prev=/images%3Fq%3Dpaisagem%2Bnatural%26hl%3Dpt-br%26gbv%3D2%26tbs%3Disch:1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Ver imagem em tamanho gran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81080" y="-574560"/>
            <a:ext cx="9325080" cy="7532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324000" y="-1333800"/>
            <a:ext cx="8569080" cy="9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Ainda que eu falasse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A língua dos homens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E falasse a língua dos anjos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Sem amor, eu nada seria...</a:t>
            </a:r>
            <a:br>
              <a:rPr sz="6000"/>
            </a:b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>
            <a:hlinkClick r:id="rId3"/>
          </p:cNvPr>
          <p:cNvSpPr/>
          <p:nvPr/>
        </p:nvSpPr>
        <p:spPr>
          <a:xfrm>
            <a:off x="3952800" y="2881440"/>
            <a:ext cx="12384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9">
            <a:hlinkClick r:id="rId4"/>
          </p:cNvPr>
          <p:cNvSpPr/>
          <p:nvPr/>
        </p:nvSpPr>
        <p:spPr>
          <a:xfrm>
            <a:off x="3952800" y="2881440"/>
            <a:ext cx="12384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763640" y="189000"/>
            <a:ext cx="635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826920" y="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3300"/>
                </a:solidFill>
                <a:latin typeface="Edwardian Script ITC"/>
              </a:rPr>
              <a:t>Monte Castelo – Legião Urba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Lagy_Gaga_-_Alejandro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Lagy_Gaga_-_Alejandro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86948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88948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Ver imagem em tamanho gran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692360" y="-1643760"/>
            <a:ext cx="7927920" cy="10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É só o amor, é só o am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Que conhece o que é verd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O amor é bom, não quer o 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Não sente inveja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Ou se envaidece...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Ver imagem em tamanho grand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69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Ver imagem em tamanho gran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1835280" y="-3013920"/>
            <a:ext cx="7742160" cy="12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O amor é o fo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Que arde sem se ver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É ferida que dó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E não se sente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É um contentamento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Descontente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É dor que desatina sem doer...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>
            <a:hlinkClick r:id="rId3"/>
          </p:cNvPr>
          <p:cNvSpPr/>
          <p:nvPr/>
        </p:nvSpPr>
        <p:spPr>
          <a:xfrm>
            <a:off x="3857760" y="2890800"/>
            <a:ext cx="14284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3857760" y="2890800"/>
            <a:ext cx="14284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Ver imagem em tamanho gran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1763640" y="-1713600"/>
            <a:ext cx="7327800" cy="10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Ainda que eu falas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A língua dos homens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E falasse a língua dos anj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Sem amor, eu nada seria...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52563_Papel-de-Parede-Paisagem-Natural--52563_800x600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0" y="66960"/>
            <a:ext cx="914400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É um não querer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Mais que bem querer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É solitário andar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Por entre a gent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É um não contentar-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De content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É cuidar que se ganh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Em se perder...</a:t>
            </a:r>
            <a:br>
              <a:rPr sz="5400"/>
            </a:br>
            <a:br>
              <a:rPr sz="2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flores%5B1%5D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826920" y="-1716120"/>
            <a:ext cx="8506080" cy="11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É um estar-se preso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Por vonta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É servir a quem venc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O vencedor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É um ter com quem nos ma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A lealdad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Tão contrário a si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É o mesmo amor...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mulher%2Bflor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50920" y="-1972440"/>
            <a:ext cx="8854920" cy="11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Estou acordado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E todos dormem, todos dorm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Todos dorm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Agora vejo em parte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Mas então veremos face a fa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É só o amor, é só o amor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Que conhece o que é verdade...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Ver imagem em tamanho gran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1908000" y="-873720"/>
            <a:ext cx="632952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Ainda que eu falasse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A língua dos homens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E falasse a língua dos anj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Sem amor, eu nada seria...</a:t>
            </a:r>
            <a:r>
              <a:rPr b="1" lang="pt-BR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  <p:sndAc>
      <p:stSnd>
        <p:snd r:embed="rId2" name="voltage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0:09:00Z</dcterms:created>
  <dc:creator>SEDMS</dc:creator>
  <dc:description/>
  <dc:language>en-US</dc:language>
  <cp:lastModifiedBy>ACER</cp:lastModifiedBy>
  <dcterms:modified xsi:type="dcterms:W3CDTF">2010-10-19T22:01:52Z</dcterms:modified>
  <cp:revision>6</cp:revision>
  <dc:subject/>
  <dc:title>Slide 1</dc:title>
</cp:coreProperties>
</file>